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96B8-01E6-4566-AABD-C5FB1B92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44BB-67AE-49D2-BC7D-7FC09F80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40AC-9E2F-4836-928E-B3881C233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0817-0B9F-4393-A3BC-B7F42A95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C7DC-3805-4D53-BC29-D9C1B5EA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A6BC-C15B-4451-9DAA-E31D081D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FA68-1DDF-4A53-B829-25213AE7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12AA-41EF-4FFD-BBB7-84A6724F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FE93-7CCB-4CD5-B60C-3ED83E7A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B76A-8830-4625-97EC-AA200CFD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C27B-3137-4D37-98C6-11F0CA89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38B4-1E68-4DE2-9BBF-4B691127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1AF0-6938-4F31-9635-4C0E7B65D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53352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 1.5   Adding Integers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 1.6   Subtracting Inte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45720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ck – Paper – Scis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133720"/>
            <a:ext cx="7391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s: Using Models to Add Inte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Rules to Add Inte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Models to Subtract Inte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Rules to Subtract Inte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1868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438280"/>
            <a:ext cx="8915400" cy="2419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59436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50292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any of the objectiv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20:01:26Z</dcterms:created>
  <dc:creator>Susannah Graham</dc:creator>
  <dc:description/>
  <dc:language>en-US</dc:language>
  <cp:lastModifiedBy>Graham</cp:lastModifiedBy>
  <dcterms:modified xsi:type="dcterms:W3CDTF">2011-08-18T12:57:06Z</dcterms:modified>
  <cp:revision>3</cp:revision>
  <dc:subject/>
  <dc:title>Slide 1</dc:title>
</cp:coreProperties>
</file>